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dt" idx="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ftr" idx="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 type="sldNum" idx="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F08B0-A875-413D-B8D6-E9A8146808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C318F-1A58-4818-AAB8-BA030592CE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809C8-A6B2-4F59-86E9-1EF5983B7B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ACFE7-AAA9-401E-B2D5-7A94B80C74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8AEA7-4E1C-4955-BDEC-163BB8C3D8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9F86E-7C10-4067-A454-3A6395DC6F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D20A9-8081-4225-B293-1E06FADAF1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7ABED-334B-46B3-9633-E27B0C91CB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40DB4-BB40-4EB2-90EE-97B4696B1B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78DA6-1E34-4FC2-868F-2C7C6580A4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99EF1-C359-4D3D-8B57-69FDB5D60C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55779-A1D4-4043-93C8-8FBCFB3CA8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8EAC9-D3E5-439E-92A2-BE445C2B6A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4D905-155A-4549-B98E-A4B4EDFC8E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D5692-1B0C-488D-BD42-4CDA84BFDD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F4ECA-9A5D-4F2D-975A-A2F547585B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3C019-B493-4E21-B416-3CCE166B30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8E827-62B5-460B-8AFD-A5A8311B19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7BCA2-7E37-4855-AD9F-8F63C91D7C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64C50-E95E-4CAE-9C9D-58A30DBD06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A9FBA-FDEE-4029-AFDF-71F065B664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A0EA5-7103-427D-976C-D9C286F22F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7A616-EA2B-46CF-8C4F-F8C4881155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57A7A-3D63-41FB-AB92-83FE525593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2B107-5191-4EF2-A715-7B2EC29D2E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4455A-5D84-4CB0-9235-57F09A14A7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93426-2A87-45EA-93D8-2DAE586FA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1CDDC-86FD-4B01-B5BD-35E3AAD66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70669-69B2-43EA-B368-200F1C876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9178A-0CD0-4C38-9898-3ED98F4B8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A29AE-34DA-4735-9032-907C5C3E7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2685A-F4A3-4ED1-98D9-BB24B5DFB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9F74A-1149-42E0-9490-72DB00F3B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6A09B-947B-4EAE-9186-889310DDB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541B6-8AAC-410D-8EF9-D48C9F518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C79C5-9558-463F-BD9C-0EF8E7988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B790B-CD78-4FD0-BA63-AEA2F4AFE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82539-0E82-4465-8C8C-58E98A7AA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73A23-EA22-43E7-8769-75DA18364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43EA8-87DE-49B6-9E6E-DF9A5E000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02940-DF9A-4E3E-AA80-01A0EF0D0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E8C27-0D50-442F-AF13-D6DF884C8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8DA3E-98D3-4237-BBAB-A6741157D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3A4C8-7CDF-45AE-94BF-1B824C966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81A66-8E33-4D42-9C38-C71D90088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4E069-37BA-4747-A63B-87B38830F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C7BDF-462F-41F4-B64E-576417561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6A480-082D-40B8-A713-F1946535B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22889-85F4-41B3-AD49-E3488C578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2CC75-8A2C-4180-A6BF-D9CF4321E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8ABE5-6435-4B15-BB68-C93CF9F0C2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6"/>
          <p:cNvSpPr/>
          <p:nvPr/>
        </p:nvSpPr>
        <p:spPr>
          <a:xfrm>
            <a:off x="755640" y="6388200"/>
            <a:ext cx="6769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Data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A4CEBBCC-9AD8-46CB-91CB-0FE519284E7B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755640" y="6388200"/>
            <a:ext cx="6769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Data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27C0656F-F6AB-4EC3-839A-62C9F60793CA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6"/>
          <p:cNvSpPr/>
          <p:nvPr/>
        </p:nvSpPr>
        <p:spPr>
          <a:xfrm>
            <a:off x="755640" y="6388200"/>
            <a:ext cx="6769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Data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5C2ED9FF-7DD1-4FFD-AB3C-D15B9404063B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489BE-EFFA-43BA-AABF-32DA0F3A473A}" type="slidenum">
              <a:rPr b="0" lang="en-Z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2"/>
          <p:cNvSpPr/>
          <p:nvPr/>
        </p:nvSpPr>
        <p:spPr>
          <a:xfrm>
            <a:off x="0" y="2349360"/>
            <a:ext cx="9140760" cy="167328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Verdana"/>
              </a:rPr>
              <a:t>Data man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0" y="1527120"/>
            <a:ext cx="9121680" cy="312588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  <a:ea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  <a:ea typeface="Arial"/>
              </a:rPr>
              <a:t>Contact Listing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62" name="Picture 2" descr=""/>
          <p:cNvPicPr/>
          <p:nvPr/>
        </p:nvPicPr>
        <p:blipFill>
          <a:blip r:embed="rId1"/>
          <a:stretch/>
        </p:blipFill>
        <p:spPr>
          <a:xfrm>
            <a:off x="561960" y="1125360"/>
            <a:ext cx="7539120" cy="499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ontact Tracing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64" name="Picture 4" descr=""/>
          <p:cNvPicPr/>
          <p:nvPr/>
        </p:nvPicPr>
        <p:blipFill>
          <a:blip r:embed="rId1"/>
          <a:stretch/>
        </p:blipFill>
        <p:spPr>
          <a:xfrm>
            <a:off x="108000" y="3429000"/>
            <a:ext cx="8950320" cy="2665440"/>
          </a:xfrm>
          <a:prstGeom prst="rect">
            <a:avLst/>
          </a:prstGeom>
          <a:ln w="19080">
            <a:solidFill>
              <a:srgbClr val="1e7fb8"/>
            </a:solidFill>
            <a:miter/>
          </a:ln>
        </p:spPr>
      </p:pic>
      <p:pic>
        <p:nvPicPr>
          <p:cNvPr id="165" name="Picture 5" descr=""/>
          <p:cNvPicPr/>
          <p:nvPr/>
        </p:nvPicPr>
        <p:blipFill>
          <a:blip r:embed="rId2"/>
          <a:stretch/>
        </p:blipFill>
        <p:spPr>
          <a:xfrm>
            <a:off x="100080" y="1413000"/>
            <a:ext cx="8950320" cy="162720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2"/>
          <p:cNvSpPr/>
          <p:nvPr/>
        </p:nvSpPr>
        <p:spPr>
          <a:xfrm>
            <a:off x="108000" y="981000"/>
            <a:ext cx="914400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Book Antiqua"/>
              </a:rPr>
              <a:t>Paper Form</a:t>
            </a:r>
            <a:r>
              <a:rPr b="1" lang="en-GB" sz="2400" spc="-1" strike="noStrike">
                <a:solidFill>
                  <a:srgbClr val="000000"/>
                </a:solidFill>
                <a:latin typeface="Book Antiqu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2"/>
          <p:cNvSpPr/>
          <p:nvPr/>
        </p:nvSpPr>
        <p:spPr>
          <a:xfrm>
            <a:off x="108000" y="2975040"/>
            <a:ext cx="9144000" cy="5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Book Antiqua"/>
              </a:rPr>
              <a:t>Electronic Form</a:t>
            </a:r>
            <a:r>
              <a:rPr b="1" lang="en-GB" sz="2400" spc="-1" strike="noStrike">
                <a:solidFill>
                  <a:srgbClr val="000000"/>
                </a:solidFill>
                <a:latin typeface="Book Antiqua"/>
              </a:rPr>
              <a:t>: how it looks like in current Epi Info D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69" name="Picture 3" descr=""/>
          <p:cNvPicPr/>
          <p:nvPr/>
        </p:nvPicPr>
        <p:blipFill>
          <a:blip r:embed="rId1"/>
          <a:stretch/>
        </p:blipFill>
        <p:spPr>
          <a:xfrm>
            <a:off x="1887480" y="1206360"/>
            <a:ext cx="5060880" cy="488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" descr=""/>
          <p:cNvPicPr/>
          <p:nvPr/>
        </p:nvPicPr>
        <p:blipFill>
          <a:blip r:embed="rId1"/>
          <a:stretch/>
        </p:blipFill>
        <p:spPr>
          <a:xfrm>
            <a:off x="1266840" y="1125360"/>
            <a:ext cx="5813280" cy="499752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73" name="Picture 2" descr=""/>
          <p:cNvPicPr/>
          <p:nvPr/>
        </p:nvPicPr>
        <p:blipFill>
          <a:blip r:embed="rId1"/>
          <a:stretch/>
        </p:blipFill>
        <p:spPr>
          <a:xfrm>
            <a:off x="1488960" y="1093680"/>
            <a:ext cx="5394600" cy="499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75" name="Picture 2" descr=""/>
          <p:cNvPicPr/>
          <p:nvPr/>
        </p:nvPicPr>
        <p:blipFill>
          <a:blip r:embed="rId1"/>
          <a:stretch/>
        </p:blipFill>
        <p:spPr>
          <a:xfrm>
            <a:off x="1673280" y="1119240"/>
            <a:ext cx="5419800" cy="50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77" name="Picture 2" descr=""/>
          <p:cNvPicPr/>
          <p:nvPr/>
        </p:nvPicPr>
        <p:blipFill>
          <a:blip r:embed="rId1"/>
          <a:stretch/>
        </p:blipFill>
        <p:spPr>
          <a:xfrm>
            <a:off x="2297160" y="1125360"/>
            <a:ext cx="4290840" cy="50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79" name="Picture 2" descr=""/>
          <p:cNvPicPr/>
          <p:nvPr/>
        </p:nvPicPr>
        <p:blipFill>
          <a:blip r:embed="rId1"/>
          <a:stretch/>
        </p:blipFill>
        <p:spPr>
          <a:xfrm>
            <a:off x="1943280" y="1111320"/>
            <a:ext cx="4573440" cy="49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81" name="Picture 2" descr=""/>
          <p:cNvPicPr/>
          <p:nvPr/>
        </p:nvPicPr>
        <p:blipFill>
          <a:blip r:embed="rId1"/>
          <a:stretch/>
        </p:blipFill>
        <p:spPr>
          <a:xfrm>
            <a:off x="1838160" y="1125360"/>
            <a:ext cx="4770720" cy="50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201600"/>
            <a:ext cx="91440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General objective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610920" y="1988640"/>
            <a:ext cx="7993080" cy="32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This presentation introduces the goals of data management during an outbreak of Ebola virus disease (EVD) and some of the tools that can be used for data colle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83" name="Picture 2" descr=""/>
          <p:cNvPicPr/>
          <p:nvPr/>
        </p:nvPicPr>
        <p:blipFill>
          <a:blip r:embed="rId1"/>
          <a:stretch/>
        </p:blipFill>
        <p:spPr>
          <a:xfrm>
            <a:off x="425520" y="1265400"/>
            <a:ext cx="8107200" cy="46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2060"/>
                </a:solidFill>
                <a:latin typeface="Arial"/>
              </a:rPr>
              <a:t>Data Management</a:t>
            </a:r>
            <a:endParaRPr b="1" lang="en-US" sz="4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85" name="Rectangle 3"/>
          <p:cNvSpPr/>
          <p:nvPr/>
        </p:nvSpPr>
        <p:spPr>
          <a:xfrm>
            <a:off x="108000" y="1197000"/>
            <a:ext cx="9036000" cy="49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Arial"/>
              </a:rPr>
              <a:t>Paper verification &amp; validation of filled 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ing daily feedback to data collectors and teams in the fie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Arial"/>
              </a:rPr>
              <a:t>Entering data in the database dai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eaning the data dai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Arial"/>
              </a:rPr>
              <a:t>Daily sharing of data with the central/sub-regional/regional level coordination body and WH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ducing required outputs that help monitor the evolution of the epidem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pidemic Curv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Daily/Weekly trend graph of cases and death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ge and sex distribution of cases and death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Maps of cases and deaths by location, district or province; specific locations of points of interest such as treatment centers, areas/places with high population density like mines, schools, churches etc. could be shown as wel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Risk factor analyses; etc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3000"/>
            </a:br>
            <a:r>
              <a:rPr b="1" lang="en-GB" sz="40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n-CA" sz="2000" spc="-1" strike="noStrike">
                <a:solidFill>
                  <a:srgbClr val="002060"/>
                </a:solidFill>
                <a:latin typeface="Arial"/>
              </a:rPr>
              <a:t>Epicurve by week of onset, December 2013 to 30 July 2014 (n=1406)</a:t>
            </a:r>
            <a:endParaRPr b="1" lang="en-US" sz="20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87" name="Picture 5" descr=""/>
          <p:cNvPicPr/>
          <p:nvPr/>
        </p:nvPicPr>
        <p:blipFill>
          <a:blip r:embed="rId1"/>
          <a:stretch/>
        </p:blipFill>
        <p:spPr>
          <a:xfrm>
            <a:off x="282600" y="1109520"/>
            <a:ext cx="839304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3" descr=""/>
          <p:cNvPicPr/>
          <p:nvPr/>
        </p:nvPicPr>
        <p:blipFill>
          <a:blip r:embed="rId1"/>
          <a:stretch/>
        </p:blipFill>
        <p:spPr>
          <a:xfrm>
            <a:off x="361800" y="1125360"/>
            <a:ext cx="8666280" cy="5015160"/>
          </a:xfrm>
          <a:prstGeom prst="rect">
            <a:avLst/>
          </a:prstGeom>
          <a:ln w="0">
            <a:noFill/>
          </a:ln>
        </p:spPr>
      </p:pic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3600"/>
            </a:br>
            <a:r>
              <a:rPr b="1" lang="en-CA" sz="2800" spc="-1" strike="noStrike">
                <a:solidFill>
                  <a:srgbClr val="002060"/>
                </a:solidFill>
                <a:latin typeface="Arial"/>
              </a:rPr>
              <a:t>Epidemic Curve (EVD Guinea, Weekly)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2060"/>
                </a:solidFill>
                <a:latin typeface="Arial"/>
                <a:ea typeface="Arial"/>
              </a:rPr>
              <a:t>Sample Monitoring Outputs:</a:t>
            </a:r>
            <a:br>
              <a:rPr sz="4000"/>
            </a:br>
            <a:r>
              <a:rPr b="1" lang="en-GB" sz="26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1" lang="en-CA" sz="2600" spc="-1" strike="noStrike">
                <a:solidFill>
                  <a:srgbClr val="002060"/>
                </a:solidFill>
                <a:latin typeface="Arial"/>
                <a:ea typeface="Arial"/>
              </a:rPr>
              <a:t>Age, sex distribution of cases and deaths (EVD Guinea)</a:t>
            </a:r>
            <a:endParaRPr b="1" lang="en-US" sz="2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91" name="Picture 2" descr=""/>
          <p:cNvPicPr/>
          <p:nvPr/>
        </p:nvPicPr>
        <p:blipFill>
          <a:blip r:embed="rId1"/>
          <a:stretch/>
        </p:blipFill>
        <p:spPr>
          <a:xfrm>
            <a:off x="971640" y="1125360"/>
            <a:ext cx="6913440" cy="5002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4000"/>
            </a:b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n-CA" sz="3200" spc="-1" strike="noStrike">
                <a:solidFill>
                  <a:srgbClr val="002060"/>
                </a:solidFill>
                <a:latin typeface="Arial"/>
              </a:rPr>
              <a:t>Maps of cases and deaths by location</a:t>
            </a:r>
            <a:endParaRPr b="1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93" name="Picture 2" descr=""/>
          <p:cNvPicPr/>
          <p:nvPr/>
        </p:nvPicPr>
        <p:blipFill>
          <a:blip r:embed="rId1"/>
          <a:stretch/>
        </p:blipFill>
        <p:spPr>
          <a:xfrm>
            <a:off x="324000" y="1127160"/>
            <a:ext cx="828036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n-CA" sz="2500" spc="-1" strike="noStrike">
                <a:solidFill>
                  <a:srgbClr val="002060"/>
                </a:solidFill>
                <a:latin typeface="Arial"/>
              </a:rPr>
              <a:t>Maps of cases and deaths by location (showing mines)</a:t>
            </a:r>
            <a:endParaRPr b="1" lang="en-US" sz="25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95" name="Picture 2" descr="Picture1"/>
          <p:cNvPicPr/>
          <p:nvPr/>
        </p:nvPicPr>
        <p:blipFill>
          <a:blip r:embed="rId1"/>
          <a:stretch/>
        </p:blipFill>
        <p:spPr>
          <a:xfrm>
            <a:off x="1569960" y="1106640"/>
            <a:ext cx="5881680" cy="50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3400"/>
            </a:br>
            <a:r>
              <a:rPr b="1" lang="en-CA" sz="2500" spc="-1" strike="noStrike">
                <a:solidFill>
                  <a:srgbClr val="002060"/>
                </a:solidFill>
                <a:latin typeface="Arial"/>
              </a:rPr>
              <a:t>Maps of cases and deaths by location (showing treatment centers and laboratories)</a:t>
            </a:r>
            <a:endParaRPr b="1" lang="en-US" sz="25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97" name="Picture 2" descr="Picture2"/>
          <p:cNvPicPr/>
          <p:nvPr/>
        </p:nvPicPr>
        <p:blipFill>
          <a:blip r:embed="rId1"/>
          <a:stretch/>
        </p:blipFill>
        <p:spPr>
          <a:xfrm>
            <a:off x="1584360" y="1103400"/>
            <a:ext cx="5867280" cy="50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201600"/>
            <a:ext cx="91440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Learning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objectives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755280" y="1514520"/>
            <a:ext cx="7777080" cy="407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t the end of the session you will be able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xplain the data management objectives during an outbreak of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escribe the main types of data collection tools and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Review sample monitoring outpu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  <a:ea typeface="Arial"/>
              </a:rPr>
              <a:t>Data Management objectives during EVD outbreak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50560" y="1557000"/>
            <a:ext cx="8785080" cy="41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To ensure efficient management of EVD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 ensure timely capture in the system of investigated case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To monitor cases (suspected, probable or confirmed) isolation, management and dischar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 monitor that all cases contacts are followed up daily for 21 days in order to identify early EVD symptoms for early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To monitor daily the magnitude (persons (sex, age, health workers etc.) infected, time and place) of the outbre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 monitor procurement and supplies management in order to avoid stockou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Use daily analyses as evidence to take timely required actions for the control of the outbre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50" name="Rectangle 3"/>
          <p:cNvSpPr/>
          <p:nvPr/>
        </p:nvSpPr>
        <p:spPr>
          <a:xfrm>
            <a:off x="436680" y="1270080"/>
            <a:ext cx="8599320" cy="49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buClr>
                <a:srgbClr val="1e7fb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e7fb8"/>
                </a:solidFill>
                <a:latin typeface="Arial"/>
              </a:rPr>
              <a:t>Section 1: Patient Inform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tion 2: Clinical Sig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1e7fb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e7fb8"/>
                </a:solidFill>
                <a:latin typeface="Arial"/>
              </a:rPr>
              <a:t>Section 3: Hospitalization Inform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tion 4: Epidemiological Risk Factors and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1e7fb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e7fb8"/>
                </a:solidFill>
                <a:latin typeface="Arial"/>
              </a:rPr>
              <a:t>Section 5: Clinical Specimens and Laborator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tion 6: Patient Outcome Inform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52" name="Picture 4" descr=""/>
          <p:cNvPicPr/>
          <p:nvPr/>
        </p:nvPicPr>
        <p:blipFill>
          <a:blip r:embed="rId1"/>
          <a:stretch/>
        </p:blipFill>
        <p:spPr>
          <a:xfrm>
            <a:off x="95400" y="1436760"/>
            <a:ext cx="8869320" cy="45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54" name="Picture 2" descr=""/>
          <p:cNvPicPr/>
          <p:nvPr/>
        </p:nvPicPr>
        <p:blipFill>
          <a:blip r:embed="rId1"/>
          <a:stretch/>
        </p:blipFill>
        <p:spPr>
          <a:xfrm>
            <a:off x="0" y="1174680"/>
            <a:ext cx="9034560" cy="484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30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2" descr=""/>
          <p:cNvPicPr/>
          <p:nvPr/>
        </p:nvPicPr>
        <p:blipFill>
          <a:blip r:embed="rId1"/>
          <a:stretch/>
        </p:blipFill>
        <p:spPr>
          <a:xfrm>
            <a:off x="1763640" y="1125360"/>
            <a:ext cx="5375520" cy="502452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14:06:57Z</dcterms:created>
  <dc:creator>Etienne M Minkoulou</dc:creator>
  <dc:description/>
  <dc:language>en-US</dc:language>
  <cp:lastModifiedBy>Gomez, Paula</cp:lastModifiedBy>
  <cp:lastPrinted>2013-10-01T07:19:12Z</cp:lastPrinted>
  <dcterms:modified xsi:type="dcterms:W3CDTF">2014-12-15T15:14:47Z</dcterms:modified>
  <cp:revision>181</cp:revision>
  <dc:subject/>
  <dc:title>DPC Training and Technical Update</dc:title>
</cp:coreProperties>
</file>